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2709720" y="658332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RIVILEGED &amp; CONFIDENTIAL. JBoss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67720" y="5951520"/>
            <a:ext cx="1228680" cy="7603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 flipV="1">
            <a:off x="538200" y="98784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F1BBE-12DC-4D1A-8E1F-4C040B60D70D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685800" y="301212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27200" y="6553080"/>
            <a:ext cx="440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IVILEGED &amp; CONFIDENTIAL, JBoss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567320" y="336600"/>
            <a:ext cx="4319640" cy="1163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7573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ld/Platinum Custom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gra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 (Alert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ing (Workflow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vailability – July 1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arget – testing/doc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trolled by license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cess still being defin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rst releas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sting, documentation, abosorb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Release – Octob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ministration task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C View of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ne tune JEMS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CSP Relea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adata(metajiz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ifications workflow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Update Servi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ckgroun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oal – Extending Suppor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nowled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sio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eedbac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quirements/feedback – customers, core, support, jboss world, management, bo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ther feedbac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stomers have seen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re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MEA CAM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1 demo of EM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wo Pa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ustomer Service Port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nowledge Tool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nterprise Manag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16666" r="0" b="4169"/>
          <a:stretch/>
        </p:blipFill>
        <p:spPr>
          <a:xfrm>
            <a:off x="6172200" y="1676520"/>
            <a:ext cx="2438280" cy="1447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172200" y="4267080"/>
            <a:ext cx="245736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CS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s at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 DB – backend salesfor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ill expose services which EM can communicate wit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 month new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JB 3/Struts, will move to JBoss Port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s server/agent(s) on customer si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d third party software for ba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a few vendor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ed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agent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 on JBo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lexible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ready supports JBoss, Apache, Tomcat, 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urce code license with ability to open sour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ea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SP – Frank Meren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Updates – Jessica S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Monitoring – Greg Hink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M Administr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ohn Mazzitell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rles Crou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jit Mandala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ertif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Synd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cv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xwiki for documen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nerated to static html for online customer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IRA Projec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line distribution from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rnal distribution available at…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ther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4:53:50Z</dcterms:created>
  <dc:creator>Rich Friedman</dc:creator>
  <dc:description/>
  <dc:language>en-US</dc:language>
  <cp:lastModifiedBy>Rich Friedman</cp:lastModifiedBy>
  <dcterms:modified xsi:type="dcterms:W3CDTF">2005-07-04T23:31:28Z</dcterms:modified>
  <cp:revision>7</cp:revision>
  <dc:subject/>
  <dc:title>Overview</dc:title>
</cp:coreProperties>
</file>