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EE9B4101-7FF6-4B05-BAEE-B0B281BD1780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JBOSS CONFIDENTI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477120"/>
            <a:ext cx="385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BOSS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gent Overview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193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gent 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3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is the agent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is it configur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are plugin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start/stop the 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3733920"/>
            <a:ext cx="5624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e: most of this will be uninteresting to most end users; (but you guys are special </a:t>
            </a:r>
            <a:r>
              <a:rPr b="0" i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e agent runs on each managed platform (host machin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l agents communicate back to the server (hub-n-spoke model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gent-to-server utilize HTTP(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-to-agent utilize proprietary protocol, may optionally use SS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s do not run inside a JBoss instance (unlike the serv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mands 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the command sets the agent sup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ugi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the products the agent sup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rtup Configur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gent.properties defines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/where to connect to serv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re agent can find the serv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gin information agent uses to sign 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SL sett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e the agent.setup.X sett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commands servers the agent supports (i.e. commands it will accept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.cmdBootstra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never have to modify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he location of the plugin directorie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lugins are dynamically load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.pdkPluginDi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never have to modify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og4J log file location, appenders and logger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ound in the agent directory located under the main install directory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an override its settings by placing an “agent.properties” file located in a “.hq” directory under the home directory of the user to run the agent (used mainly for debugging – end users will rarely want to use this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/data directory (located under the agent directory) contains configuration information used during runtime such as security token data used to authenticate with the ser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mand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.propertie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ettin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ome of the properties that are of most interest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IP=localho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Port=708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SSLPort=744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Secure=y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Login=jbnad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Pword=jbnad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agentIP=*defaul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agentPort=*defaul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resetupTokens=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4j.rootLogger=INFO, 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4j.logger.com.jboss.jbossnetwork=INF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inventory.defaultScan.interval.millis=864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inventory.runtimeScan.interval.millis=864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in XML Descrip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ach plugin has a descri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tc/hq-plugin.xm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fines what the plugin sup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r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duct vers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figu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ugin typ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utoinventor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o come in future versions…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/pdk/plugins directory under the agent directory for the plugin ja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rting/Stopp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indows executable and UNIX script are provid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-agent.ex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-agent.s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cated in the same agent directory as the agent.properties fi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se will be renamed in the future (hq=jb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Windows .exe can install itself as a Windows Servi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p will create the initial configuration data the agent needs to communication with the server and load its command servers/plugins (agent.propertie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p configuration data is stored in the agent’s /data directory.  Purge this directory for a clean setup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e agent’s /log directory for the logs (unless you modified agent.properties Log4J configuratio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configure the agent to use a secure channel between it and the 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the “setup” command line argument to the agent executab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.properties can define the following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gent.setup.camSecur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gent.setup.camSSLPo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art and stop the agent using the command line and (if you are so blessed as to have a Windows machine) the Windows Services GUI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8:11:09Z</dcterms:created>
  <dc:creator>John Mazzitelli</dc:creator>
  <dc:description/>
  <dc:language>en-US</dc:language>
  <cp:lastModifiedBy>John Mazzitelli</cp:lastModifiedBy>
  <dcterms:modified xsi:type="dcterms:W3CDTF">2005-07-10T00:43:07Z</dcterms:modified>
  <cp:revision>27</cp:revision>
  <dc:subject/>
  <dc:title>Agent Overview</dc:title>
</cp:coreProperties>
</file>